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A73-2205-4DE7-8268-EF7D387C7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E08E-2D03-4D19-9327-7DC7EE75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3FDE-87A8-43FD-905E-8FC7E33D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E58-F4D6-467C-9FA3-B8564138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6569-8757-473C-9DDB-334807EB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680A-9A03-4B3E-8B5A-0AAF6B1E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B353-FD2E-485A-A67F-B4415853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4161-9BE7-4606-A1B0-5FAC7E8E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1504-BE26-4663-953D-5055F384B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BE70-7A82-4E14-8C7B-F79B9AE9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C6C5-1B10-4124-B5CC-92F2DA6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16F-641E-4DF4-8AFC-9640E686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7053-8C19-427A-83F7-AD7B3F2C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2E90-1E3D-4BAE-A5C5-65C4E7D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B55A-1223-4EFE-9EBD-586CB045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F842-D741-41C9-BB8E-6AEA19E9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220D-82A6-4958-9D54-CE1F54BB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D1CA-38D2-4883-9856-3F690930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473-FAFD-4E5B-9185-168B0CB9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241E-35CE-4AC6-A38D-CE2F5FF4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0D6-B1E7-45B9-8A9A-A711338B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7DC-18CE-4C8A-83D8-053F0578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13A-8308-40AA-B834-4CD980CC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667-6D74-4E16-994F-8EAC9301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51D5-AE49-4C1F-A7F6-C58CABA8C5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7" descr="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36E6-2D8C-4D3E-8DF0-252B6E8242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4437000"/>
            <a:ext cx="59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БЩЕСТВО. ЭКОСИСТЕМА. БИОГЕЦЕНО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333360"/>
            <a:ext cx="39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… </a:t>
            </a: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Поля и пестрые цветы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И с гор струящиеся воды –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тдельно взятые черты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Всецельно дышащей природы: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ая вас связала нить,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Одна другой светлей и кр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Каким законом объяснить 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Родство таинственное наше?</a:t>
            </a:r>
            <a:br>
              <a:rPr sz="1800"/>
            </a:br>
            <a:r>
              <a:rPr b="1" lang="ru-RU" sz="1800" spc="-1" strike="noStrike">
                <a:solidFill>
                  <a:srgbClr val="009900"/>
                </a:solidFill>
                <a:latin typeface="Times New Roman"/>
              </a:rPr>
              <a:t>                                          А. Толст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9280" y="227664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объединяет различные организмы, жизнь которых проходит на одной территор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342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ему воздействие, оказываемое на один или несколько видов растений или животных, часто приводит к нарушениям условий жизни всех остальных элементов сообщества организмо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19890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вокупность видов растений и животных, длительное время сосуществующих в определенном пространстве и представляющих собой определенное экологическое единст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&amp;Bcy;&amp;icy;&amp;ocy;&amp;tscy;&amp;icy;&amp;ncy;&amp;ocy;&amp;zcy; &amp;pcy;&amp;rcy;&amp;ucy;&amp;dcy;&amp;acy;"/>
          <p:cNvPicPr/>
          <p:nvPr/>
        </p:nvPicPr>
        <p:blipFill>
          <a:blip r:embed="rId1"/>
          <a:stretch/>
        </p:blipFill>
        <p:spPr>
          <a:xfrm>
            <a:off x="179280" y="3573360"/>
            <a:ext cx="3267360" cy="2809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&amp;Bcy;&amp;icy;&amp;ocy;&amp;tscy;&amp;icy;&amp;ncy;&amp;ocy;&amp;zcy; &amp;dcy;&amp;ucy;&amp;bcy;&amp;rcy;&amp;acy;&amp;vcy;&amp;ycy;"/>
          <p:cNvPicPr/>
          <p:nvPr/>
        </p:nvPicPr>
        <p:blipFill>
          <a:blip r:embed="rId2"/>
          <a:stretch/>
        </p:blipFill>
        <p:spPr>
          <a:xfrm>
            <a:off x="3492360" y="3573360"/>
            <a:ext cx="3097440" cy="2799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56000" y="692280"/>
            <a:ext cx="48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СООБЩЕСТВО (БИОЦЕНО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91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Название «биоценоз» ввел в науку немецкий ученый Карл Мебиус в 1877 г. Изучая, как увеличить продуктивность устричного хозяйства на отмелях Северного моря, он обнаружил, что устрицы образуют вместе с другими видами морских животных тесные сообщества, которые приурочены к определенному грунту, солености и температуре воды. В этих сообществах происходит борьба за существование и регуляция численности видов, поэтому их продуктивность имеет пределы. Отсюда следовал практический вывод: «Если желательно увеличить число животных и растений против того, что имеется в естественных сообществах, то следует защитить яйца и молодь от врагов, дать им необходимую пищу и достаточное пространство. Это имеет место при искусственном разведении устриц, в рыболовстве, в лесном, полевом и садовом хозяйстве. В них мы имеем дело с искусственными жизненными сообществами, в которых важным фактором является работа человеческой мысли и работа рук»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1052640"/>
            <a:ext cx="216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ПОЛНИТЕЛЬНАЯ ИНФОРМ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&amp;Kcy;. &amp;Mcy;&amp;iecy;&amp;bcy;&amp;icy;&amp;ucy;&amp;scy; (1825 - 1908)"/>
          <p:cNvPicPr/>
          <p:nvPr/>
        </p:nvPicPr>
        <p:blipFill>
          <a:blip r:embed="rId1"/>
          <a:stretch/>
        </p:blipFill>
        <p:spPr>
          <a:xfrm>
            <a:off x="7308720" y="4724280"/>
            <a:ext cx="183528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ЭКОСИСТЕ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198900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общество живых организмов вместе с физической средой их обитания, объединенные обменов веществ и энергии в единый компле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4270320" cy="3203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84464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нородный участок земной поверхности с определенным составом живых организмов (биоценоз) и определенными условиями среды обитания (биотоп), которые объединены обменом веществ и энергии в единый природный комплекс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Рисунок 3" descr="3.jpg"/>
          <p:cNvPicPr/>
          <p:nvPr/>
        </p:nvPicPr>
        <p:blipFill>
          <a:blip r:embed="rId1"/>
          <a:srcRect l="16144" t="6176" r="16580" b="4237"/>
          <a:stretch/>
        </p:blipFill>
        <p:spPr>
          <a:xfrm>
            <a:off x="250920" y="3693960"/>
            <a:ext cx="2592360" cy="258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ГЕОЦЕНО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РИЗНА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1" descr="5.jpg"/>
          <p:cNvPicPr/>
          <p:nvPr/>
        </p:nvPicPr>
        <p:blipFill>
          <a:blip r:embed="rId1"/>
          <a:stretch/>
        </p:blipFill>
        <p:spPr>
          <a:xfrm>
            <a:off x="0" y="1844640"/>
            <a:ext cx="597708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56000" y="981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БИОСФ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052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7309" t="17932" r="9251" b="7674"/>
          <a:stretch/>
        </p:blipFill>
        <p:spPr>
          <a:xfrm>
            <a:off x="1116000" y="1773360"/>
            <a:ext cx="3595680" cy="453708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49228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844640"/>
            <a:ext cx="7705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Конструируя лесополосы, парки, сады и т.п. , человек подбирает только небольшое число основных видов. В природных биоценозах видов во много раз больше. Значит ли это, что мы не можем создавать устойчивые сообществ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Могут ли в настоящее время сохраниться биоценозы, не подверженные никаким антропогенным воздействиям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Как можно использовать опушечный эффект при планировании сельскохозяйственных угоди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. При удалении какого-либо вида из биоценоза остальные занимают его место, повышают численность и выполняют его роль. Зачем тогда заботиться о сохранении видового разнообразия сообществ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 Существуют ли в природе неустойчивые сообщества?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9079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ЕМЫ ДИСКУСС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5:51:40Z</dcterms:created>
  <dc:creator>Admin</dc:creator>
  <dc:description/>
  <dc:language>en-US</dc:language>
  <cp:lastModifiedBy>Admin</cp:lastModifiedBy>
  <dcterms:modified xsi:type="dcterms:W3CDTF">2013-03-04T16:10:26Z</dcterms:modified>
  <cp:revision>19</cp:revision>
  <dc:subject/>
  <dc:title>Слайд 1</dc:title>
</cp:coreProperties>
</file>